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4E4-B143-4A21-A3A9-56E4D523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F2A-FB05-4F1F-8CB8-F1E82AA4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9A6-3667-4089-B38A-C1AB4465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460-163C-4703-B3FB-E96F08BF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287-8987-4C21-AB0D-4EE951D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036-7595-4A41-919E-AC550CF1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A4C-E8D0-4A21-A53B-440BEAE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301-7312-4CAD-BA01-A1E8B784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A9B-95C6-41AB-B76E-9E4DC819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C1A-7639-42CB-BAAA-D0227BF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42F-3B0D-401A-818D-7816011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343-2CDC-45AE-9465-3471A96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17A6-6F91-4F0A-A05B-B2E0FC18F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603360" y="103320"/>
            <a:ext cx="8089920" cy="1974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Type the answer at the bottom where it says “Click to add no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, flat area of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2" descr="http://t2.gstatic.com/images?q=tbn:ANd9GcStIihgQTNKQuC9S4yh2T62yid0XoEOrnJWRir0qUk6ABTktFv6gmbm6LF0uA"/>
          <p:cNvPicPr/>
          <p:nvPr/>
        </p:nvPicPr>
        <p:blipFill>
          <a:blip r:embed="rId1"/>
          <a:stretch/>
        </p:blipFill>
        <p:spPr>
          <a:xfrm>
            <a:off x="457200" y="1828800"/>
            <a:ext cx="62546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poweruser</cp:lastModifiedBy>
  <dcterms:modified xsi:type="dcterms:W3CDTF">2011-09-23T15:55:20Z</dcterms:modified>
  <cp:revision>29</cp:revision>
  <dc:subject/>
  <dc:title>PowerPoint Presentation</dc:title>
</cp:coreProperties>
</file>